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,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32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45F3A3B3-34DE-4482-B13C-413C55FD9DD1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3400" y="743040"/>
            <a:ext cx="82756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GmbH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41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D557FE7C-4702-46D6-AB34-9213A88844CA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98760" y="1066680"/>
            <a:ext cx="6518520" cy="43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Company Pres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441360" y="1854360"/>
            <a:ext cx="371304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AP.doc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o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ISD.h and TISD.intf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6440" y="5265720"/>
            <a:ext cx="3932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“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Nature just loves to improve on itself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Heraclit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43040" y="241920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71" name="logo_300dpi_12mm" descr=""/>
          <p:cNvPicPr/>
          <p:nvPr/>
        </p:nvPicPr>
        <p:blipFill>
          <a:blip r:embed="rId1"/>
          <a:stretch/>
        </p:blipFill>
        <p:spPr>
          <a:xfrm>
            <a:off x="3046320" y="1449360"/>
            <a:ext cx="3443400" cy="3454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51048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INSIDE</a:t>
            </a:r>
            <a:endParaRPr b="0" lang="en-US" sz="4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5748480" y="5544720"/>
            <a:ext cx="1220760" cy="97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33600" y="914400"/>
            <a:ext cx="6972120" cy="4127400"/>
            <a:chOff x="1533600" y="914400"/>
            <a:chExt cx="6972120" cy="4127400"/>
          </a:xfrm>
        </p:grpSpPr>
        <p:graphicFrame>
          <p:nvGraphicFramePr>
            <p:cNvPr id="94" name=""/>
            <p:cNvGraphicFramePr/>
            <p:nvPr/>
          </p:nvGraphicFramePr>
          <p:xfrm>
            <a:off x="1533600" y="914400"/>
            <a:ext cx="6972120" cy="41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914400"/>
                      <a:ext cx="6972120" cy="4127400"/>
                    </a:xfrm>
                    <a:prstGeom prst="rect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114760" y="1155600"/>
              <a:ext cx="237960" cy="634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413960" y="1399320"/>
              <a:ext cx="380520" cy="405000"/>
              <a:chOff x="4413960" y="1399320"/>
              <a:chExt cx="380520" cy="405000"/>
            </a:xfrm>
          </p:grpSpPr>
          <p:sp>
            <p:nvSpPr>
              <p:cNvPr id="98" name=""/>
              <p:cNvSpPr/>
              <p:nvPr/>
            </p:nvSpPr>
            <p:spPr>
              <a:xfrm>
                <a:off x="4534560" y="146124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69760" y="143208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13960" y="139932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777800" y="1567440"/>
              <a:ext cx="3366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330200"/>
            <a:ext cx="2152800" cy="32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78480" y="1330200"/>
            <a:ext cx="1800" cy="2383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21480" y="1805040"/>
            <a:ext cx="1800" cy="14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4640" y="293364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804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000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20840"/>
            <a:ext cx="1076400" cy="14842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3GP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PEC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7360" y="3111120"/>
            <a:ext cx="97020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Messag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equenc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Charts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ystem Design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0" y="2933640"/>
            <a:ext cx="2030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7020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24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9120" y="3128760"/>
            <a:ext cx="878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Requirement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pec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Analysis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39840" y="3052800"/>
            <a:ext cx="47016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31640" y="3052800"/>
            <a:ext cx="47124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59240" y="1627200"/>
          <a:ext cx="47160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9240" y="1627200"/>
                    <a:ext cx="4716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59240" y="1092240"/>
          <a:ext cx="47160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9240" y="1092240"/>
                    <a:ext cx="471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27640" y="1330200"/>
          <a:ext cx="33480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133020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86680" y="392904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ingle</a:t>
            </a:r>
            <a:r>
              <a:rPr b="1" lang="en-GB" sz="2000" spc="-1" strike="noStrike">
                <a:solidFill>
                  <a:srgbClr val="ff9966"/>
                </a:solidFill>
                <a:latin typeface="ITC Officina Sans Book"/>
              </a:rPr>
              <a:t>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our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2441520"/>
            <a:ext cx="3854520" cy="1708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800" y="1236600"/>
            <a:ext cx="2250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Affected part of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the tool ch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240600" y="5241960"/>
          <a:ext cx="334800" cy="49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0600" y="524196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400800" y="3753000"/>
            <a:ext cx="0" cy="1657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080" y="56656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TISD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Compiler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5840" y="5450040"/>
            <a:ext cx="20340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9240" y="539100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2640" y="5330880"/>
            <a:ext cx="20160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5448240"/>
            <a:ext cx="2034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4440" y="53895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7840" y="53290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459576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3ce"/>
                </a:solidFill>
                <a:latin typeface="ITC Officina Sans Book"/>
              </a:rPr>
              <a:t>The SAP compiler chai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160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3520" y="528480"/>
            <a:ext cx="36828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59240" y="160200"/>
          <a:ext cx="41832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60200"/>
                    <a:ext cx="41832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23880" y="1316160"/>
            <a:ext cx="39830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The SAP compiler chain contains 3 executab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tiword (or doc2txt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Equivalent to save as tex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nverts the text file to an structured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text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format (MDF/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PDF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h-files for Condat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d tabels for CCD-lib, Trace and Test tools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Optional generate SDL include 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TISD h-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78000" y="5359320"/>
            <a:ext cx="743040" cy="41904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07480" y="4311720"/>
            <a:ext cx="869760" cy="42552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71000" y="4667400"/>
            <a:ext cx="1033200" cy="1589040"/>
          </a:xfrm>
          <a:custGeom>
            <a:avLst/>
            <a:gdLst>
              <a:gd name="textAreaLeft" fmla="*/ 50400 w 1033200"/>
              <a:gd name="textAreaRight" fmla="*/ 982800 w 1033200"/>
              <a:gd name="textAreaTop" fmla="*/ 50400 h 1589040"/>
              <a:gd name="textAreaBottom" fmla="*/ 1538640 h 1589040"/>
            </a:gdLst>
            <a:ahLst/>
            <a:rect l="textAreaLeft" t="textAreaTop" r="textAreaRight" b="textAreaBottom"/>
            <a:pathLst>
              <a:path w="21600" h="33216">
                <a:moveTo>
                  <a:pt x="3600" y="0"/>
                </a:moveTo>
                <a:arcTo wR="3600" hR="3600" stAng="16200000" swAng="-5400000"/>
                <a:lnTo>
                  <a:pt x="0" y="29616"/>
                </a:lnTo>
                <a:arcTo wR="3600" hR="3600" stAng="10800000" swAng="-5400000"/>
                <a:lnTo>
                  <a:pt x="18000" y="3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61675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3069"/>
                </a:solidFill>
                <a:latin typeface="ITC Officina Sans Book"/>
              </a:rPr>
              <a:t>Note: PDF is not to the Adobe acrobat format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0840" y="1943280"/>
            <a:ext cx="19094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StartModulo         startModulo;              /*&lt;  0:  1&gt; Pub_X_StartModulo  Start point of reception of transport blocks from the PCCPCH (SFN mod start_modulo = 0)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hresholdIncluded;        /*&lt;  1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hreshold           threshold;                /*&lt;  2:  3&gt; A set of threshold parameters.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singleUarfcnIncluded;     /*&lt;  5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16                    singleUarfcn;             /*&lt;  6:  2&gt; UMTS Absolute Radio Frequency Channel Number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Included; /*&lt;  8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Count;    /*&lt;  9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HighPriorityList    highPriorityList[PUB_STD_SIZE_HIGH_PRIORITY_LIST]; /*&lt; 10: 64&gt; List of channel and code combinations to scan with high priority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SIZE(_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sizeof(L1_L1Eh_ActivateReq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1049400"/>
            <a:ext cx="49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Fixed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0840" y="1943280"/>
            <a:ext cx="1909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ctivationTime      activationTime;           /*&lt;  0:  1&gt; Pub_X_ActivationTime  This parameter is the CFN, where the configuration must be activat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rchTypeCount;            /*&lt;  1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rchType            trchType[PUB_STD_SIZE_TRCH_CONFIG]; /*&lt;  2: 32&gt; Pub_X_TrchType  The transport channel type.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ChannelReleas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SIZE(trchType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offsetof(L1_L1Eh_ChannelReleaseReq,trchType) +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sizeof(*((L1_L1Eh_ChannelReleaseReq)0)-&gt;trchType) * (sCount) )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L1_L1EH_CHANNEL_RELEASE_REQ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Variable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a different algorithm is use in the …_SIZE macr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30920" y="1154160"/>
            <a:ext cx="2878200" cy="4474440"/>
          </a:xfrm>
          <a:prstGeom prst="rect">
            <a:avLst/>
          </a:prstGeom>
          <a:noFill/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terface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structHdrFile = "L1_L1Eh.h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puts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REQ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00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outputs = 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CNF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14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Cnf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5720" y="2482920"/>
            <a:ext cx="47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A new file called ”L1_L1Eh.intf” have been creat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his file should be included in the .conf file by use of a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-preprocess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0840" y="1943280"/>
            <a:ext cx="19094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The access service class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ignaturesCount;     /*&lt;  0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ignatures     availSignatures[PUB_STD_SIZE_SIGNATURES]; /*&lt;  1: 16&gt; Pub_X_AvailSignatures  Available signatures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ubChCount;          /*&lt; 17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ubCh          availSubCh[PUB_STD_SIZE_SUB_CHANNELS]; /*&lt; 18: 12&gt; Pub_X_AvailSubCh  Available sub channels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Pub_X_AccessServiceClassInfo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ACCESS_SERVICE_CLASS_INFO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Struc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truct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0840" y="1943280"/>
            <a:ext cx="2099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enum to Variable dl_fdd_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FDD 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enum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OT_NEEDED_FOR_FDD = 0x0,    /* This parameter states if PHY needs downlink compressed mode to be able to do inter-frequency measurements in FDD mode. 0 means that DL compressed mode is not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EEDED_FOR_FDD = 0x1         /* 1 means that DL compressed mode is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Uint8 Pub_X_DlFddMeasurements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DL_FDD_MEASUREMENTS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enum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6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Enum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3ce"/>
                </a:solidFill>
                <a:latin typeface="ITC Officina Sans Book"/>
              </a:rPr>
              <a:t>Summar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Outstanding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mpile tools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Update SAPS with correct group info (need TISD input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ccept of changed …_SIZE implementation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(type of variable arrays changed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Verification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Q &amp; 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We are here the next 2 days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mailto:jho@condat.dk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ltraud Lucht</dc:creator>
  <dc:description/>
  <dc:language>en-US</dc:language>
  <cp:lastModifiedBy>Kenneth Skou Pedersen</cp:lastModifiedBy>
  <cp:lastPrinted>2001-01-17T07:58:07Z</cp:lastPrinted>
  <dcterms:modified xsi:type="dcterms:W3CDTF">2003-05-21T09:10:56Z</dcterms:modified>
  <cp:revision>74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8434.533.03.001</vt:lpwstr>
  </property>
</Properties>
</file>